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18D-6D30-4279-A63C-59B625B4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611-9FB0-49D2-87B7-F0623645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6415D-BE40-4F23-A95E-8AB9FA70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11B82-3E31-4099-97C1-7BE70B43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8E552-D555-46CF-A082-3708CE88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900DA-DC63-4A10-BD93-62FC4201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3803A-589D-404C-8B7F-8206CAED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6CE36-8082-48C2-ACA8-3B3F50AB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5C562-10AB-40CA-B7A7-34CB9DB7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73EB1-EFC8-4A7E-9F5A-578D26F7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415CB-A722-406F-8339-5D78B246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43948-88E2-47B2-9B9D-DB9CF79D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7DD-9D37-473B-8BA5-B4D3B488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20E7D-BB64-46F8-97F5-85716ADB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A782C-D5D1-4D39-8827-71372641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C583C-66B0-4FAA-9F94-59E04F9E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E6153-0B88-4E02-BD12-6DE4E5FC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7C25A-BF1D-48F9-BFD9-E73D22A7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F94A8-25DD-49CA-A3BD-A6245862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BE8E0-AC6D-40B4-871F-3FEC928C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1FB4D-9E4A-4500-9DBD-B147A8B6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F9683-2B02-4346-82DD-ECC36A0D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A19B2-462F-41FA-9855-5B4359BD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5FD-B420-4D22-83E7-DAF35EC6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28211-D0F3-4EDD-9B8F-E83D5742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3C13A-D36D-42EE-9BF8-4B849F97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60585-3631-45F1-B7A9-A1C6AFAF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70E65-BCE5-4A8E-9014-CFCDB7EA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793A3-B7E0-4A54-92E2-E1EE26EC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D8B6F-932A-4CA0-B685-7734CD02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24A29-318F-43F1-9ABF-42ADCE6D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88DCF-D4B0-422C-BBBB-F647776C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3DCD2-EBBD-449E-9452-0567D162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57F40-F815-4BD3-A4B0-8736F8A8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4692-6043-4D16-B394-96123CDD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F2C22-FC1A-4D94-B330-6401A913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628E3-D25B-4EAC-B2EE-E9A465F7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22995-0768-4383-A45F-71A6282E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1162B-032A-4C3B-A730-B48AB7DD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D0DB9-03DE-400A-AEE0-8A1BE537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51954-22D1-42AC-8C22-C9C808DA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52C99-B548-4C69-8B95-02A6B8EC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50B6F-EF7C-4B53-A320-8215DE81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5686B-3C98-4FAB-BE39-AC16CAD9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46446-A962-4FDD-8DCA-F6FFB5E2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A94A-E44A-4265-B67E-689CDC5C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E1CC6-45EA-45C5-91B7-DA8F279A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A82A0-AB5E-4D28-8BDC-D03FF2D6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32CA1-713E-4ED0-A1C4-D73A5350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40F1B-3A7F-422F-BE14-FE69B75B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F65D2-55FD-4974-BC87-EC1D1977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69482-AA01-4CBD-BD8D-5B61825A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F2658-EE73-4EAE-B572-6E406EE7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AC46A-D826-4288-98D2-0169E342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C4146-8283-49D5-A2D4-A161F57B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1E5F3-14A3-4BE1-A24E-A23A3CCA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DF69-4785-45A2-A6E9-E6BB5E86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7F6C0-A5FB-41C4-83DA-42101728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890BD-63B6-480C-AE56-51AB08B8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842C9-EF7E-495E-A77C-8017D161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B7886-E549-43A5-97D5-92E0A218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608B1-CAF2-46C7-974C-43810509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82B1B-5A0F-49D0-AC5E-4A28E143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01771-936C-458F-90DB-1729D775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6230D-5D8C-4914-9E6C-4B76D8FF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55385E-7E75-4C19-940A-2BF7A7CF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76599B-4190-4FEE-85BD-9C604E62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BAB8-EA23-4058-AF39-7B7A1284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01AA7-CE63-46B7-97AA-4822B063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B2A50-750E-473D-965E-8337902F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8EE82-15BC-444F-83F9-0D9371B8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18CB2C-DA72-48C6-AFF4-CEBF2F13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54D0E-A3A6-4CC0-A283-AB90E018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213D42-9876-439A-B5E3-18D30551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3EF24-7CAA-49BE-B283-2791EA52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3F68A-F601-48EC-9296-00419B95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1F347-902F-4F40-BB06-4BBD3D5F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9B254D-FA40-419D-B73E-9A36DB0B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1139-08E6-4E8D-8630-7CF53ADF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49F6CA-DE38-4A5E-B68D-F9CAC33F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5D629D-EECF-4416-B78A-F4B95FE0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231815-7F78-4EA1-A988-5EF2C71D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73CEBC-83B2-4247-BE18-89602CD8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8B9889-0E2D-4AAC-B355-C7A6B0C1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1F756E-B6D7-48F5-BE95-B0DDCE06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DAEA1-3663-4BE5-87BB-159D3A72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69B12-D3D6-443B-9F2B-3EB56153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5D1E27-D0BB-4C08-96CE-5E45CDC3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C15E8E-B399-4765-A93F-DF0F4740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027A-4381-4CFF-934E-CD2A661F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83BF2C-C4BC-45F5-AF26-13E8C667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E05CD7-C5F9-4393-B2B4-25D619F2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09F82D-634D-4C97-95AF-ED1988CD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77996-BADA-40D8-8AFC-78F1E9F5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417BB-757B-4862-BADC-216EDCAD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6BC966-D916-41EC-A962-FD2AA262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DADD99-8EDA-4E49-A7FD-603CA8DE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C059ED-62CE-437D-A64F-4683CA03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65E537-A8E6-4959-B853-BF4BA988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7493FD-84A9-4BA2-A72D-993F5A42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F638-5026-478B-BD4D-ADDF7489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F35AEC-A0F5-4D07-A64D-A5A3F44C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FCAA63-F99A-4451-B298-E1BB5920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1F82CE-5907-4E84-9E43-32344687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AE90E-F578-4C9F-8831-4295A8BB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4ABBF4-31FC-4B38-BB40-249806FC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04918E-04AC-4E09-9149-D1419683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432C1B-69CF-4C7B-AB01-56A4A511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2FB3D0-F5A8-491B-BF44-85639EDB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F1D143-744F-4469-82C2-9FC3A850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4BAF7E-EE0D-4EC5-BB13-5BC444E6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017-2585-41A2-A0D1-AA3508E4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CC30-061D-4B97-9DE1-83C289C6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5A03FC-344C-4882-B204-A6D129D0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37DA7B-28F3-4631-86BA-C2CEAF46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70D0E6-AB7B-4379-A243-405808DA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2C2D51-4FA4-42D0-AF3C-00C4A64B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618AC2-1777-48D2-9136-FA6A710A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F17234-8ECD-4482-8800-A54D6F3F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E5239A-4CBA-4758-8223-7753B9DC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13519A-82FD-4B4D-ADD2-94953F9D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74B154-23EB-4754-ABE3-D0596E46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699789-D3E2-4103-A852-73516847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0502-A6D8-41C3-BCBD-E68100EB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01C55-620D-4DC8-8098-70C99ED9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9E6AFD-A5B3-429A-9EE5-7E4AA95E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F173A9-B309-4EEA-815E-39DEAF43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B172EA-8239-4B0F-B1D2-1233C467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2B32B2-C2B2-4EFC-BAA7-AB2520B2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1A1A0C-CB2C-4DE8-BFAD-A04650DB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25E6F7-9A9F-4DA1-851F-68F58A4B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7C8A14-4107-46BC-AB25-6430C8CF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2AFC7F-8E6B-45E5-9C81-1F4CB952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614953-58BB-4E55-BF7C-4B9433CF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DC3A-C149-44F1-BD2F-FD76944A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5A1E3A-112B-409F-896D-998569B6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79D5A5-7B64-4CD5-A1C6-8D7DB3E7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AD4C3A-0AD3-4ABC-85A3-829A7838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1303D8-370D-47ED-BF5E-5E34E6E1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C75586-036C-447C-B600-435BA494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D99F37-E2A7-4288-A6C8-0E8B0840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173D7D-DDD2-4AA4-932F-C0764BB1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054885-B3C3-4A63-832E-08E483D6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35C057-5593-4BAA-A9DA-5BDAB19D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B37D3C-9013-48D4-9F7C-E95E4D16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6443-9899-4B40-938D-CB0CAB73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0CFBDE-E21F-4A14-94DD-C2CA7E3F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98A7B7-9AD9-48E2-BF62-90E0929D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880E85-FC49-416B-AA05-928B95E8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546976-1540-4EBD-868F-B8F04D03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A4BFD5-B5CC-4FAD-AF5F-AE6CD4C9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AC085B-FD9C-459C-8BC9-82B606C4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11087A-E798-463B-A62A-4CB0BAE3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0B2381-D028-44F5-996F-A1FA3353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17CF85-C80E-4F7A-8444-0DD3E14A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DB1546-49DF-4F5F-91D2-7DA95D12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1938-7A6E-47B6-B648-2E50B277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E98601-F729-4D96-8CBC-024C82DB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36CD61-D1D0-4007-9191-856D4AA5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2B3A26-9AB3-41E9-B033-9546F27E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1FD051-4A35-4FB5-88FF-E0325903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DCCF73-11A4-48E0-BED0-A2DB383C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A9D1D0-443F-4FAF-83A7-881A8B7E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04F049-1716-469C-90D6-1526F4E0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A02A92-E764-439B-8D4C-9C1DA94F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D92E9D-477E-4B8A-9E71-6F56B454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F34DE5-08E3-4BCD-8A02-0260D938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5622-76B7-48EC-88EF-61826D81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425392-0067-4F07-87C4-F2F89265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6CE630-BF2E-4B14-B500-444AEE68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73B369-0DF0-46CD-9ABE-F52B4DF1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3D0B2-B85A-4480-AED4-4774761A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4257-A5EF-4F49-8F7E-974AF2CE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0ED48-BA72-4575-B6B7-AE5366C6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E6CB9-51BE-488C-9788-5A7435C7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3F0-D0D8-4116-BECD-CA04B797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B9F1C-4496-4BA1-8627-F7EA259A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3494D-26F8-4ACE-AABA-0F83D5DC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50D5-CAB7-436D-BB88-834D8B28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D307-CC37-40C2-A9DE-9E5BB963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66A9F-6384-4681-9A16-EC404D87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EF598-B749-4C49-BA9D-E4D7287D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156CD-A3A7-4B31-B8DE-5B6BB1A6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AF2AA-68AD-40AA-84F9-63E04291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6E15D-362D-450D-B332-37F62525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D5C31-A6A1-4FA4-BDAB-DA6D31D9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AD4-D7D6-4FEE-B8F4-18DB0FC5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EA125-16D8-4997-AB8F-CFE915BA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53E31-0C31-4103-BE6F-24D366D3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87DAE-D3D4-40D6-AA46-C371B5FF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44D14-A331-4516-BF55-DD8A4379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5F599-C64F-421A-B367-5D895629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5A17-FE06-4ADF-AE67-0FEB4FB0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BDE87-C350-42C6-A734-02C78C2A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41BAF-2116-4BC8-A12F-CBCE9313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E6108-92C3-410C-82A9-D16EF7E0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85952-5201-4D5E-AE8E-E946E302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0C6-6EAB-46F1-8039-18E11D3B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A3131-E8B4-421D-82C6-D7A688DC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1EB21-6A71-4916-AFF5-E66870E8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5A5BB-E820-4C4E-BA2C-018E7592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FF7D4-BB8F-4BF3-8FFC-D5EDBF73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D2CD1-0685-4081-AF90-CDCF261B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1D87C-1848-4A26-A65F-8E13E361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38506-02F9-4743-BE23-DA45A693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2F204-3B7E-47A0-A352-535904C1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C09F1-DEC8-4652-ADA0-EB210831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9E43E-1156-4BF7-A338-F7AEE30E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7AF-B351-4056-94D7-7B75627B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4382E-6085-412F-9DF7-6081AB61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367A2-B9AA-451F-8EB6-C94DACA6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17BB5-A995-4FD2-8C14-F7B2287E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6A32F-D7E9-45BF-9E04-7CB6B395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0293A-AE2A-43D8-A582-84DA15ED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27A60-5A66-4531-8DFD-EB772821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70CA2-A666-412D-BB19-83EC9400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F0689-5AE1-463B-A75D-57454FAE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08666-B58D-457D-BAC3-1FEE32AF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5D863-8F14-4FBA-9A66-D3C2402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5B1-ACCD-4ED3-B48E-6491780F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DFAD3-9F71-4693-A577-3192E4FF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3A606-4876-43FA-9CB5-D8D35A30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D8B34-2A60-4B9F-9439-594DDFC7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3536E-3176-49BE-91BB-8710869C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7DB05-07B9-421E-9905-50605832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004E9-CB15-4AFA-B46D-9FB37213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EEA12-05F5-4F07-B27C-4DF7D663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5A2CE-4269-4C89-AB95-537BF6C0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4D96D-1618-49B6-BC16-89503937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EF6AD-9CC3-4BD0-B842-BCC562C7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D35-BFCF-4732-BD36-F26EB8AA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CD25F-0A28-4889-A5B8-DC8F3FCE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3AFB4-A437-4267-8553-49DC8AB1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42641-0604-4FBD-A11E-D2DDFC0C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F4F14-582D-4620-B913-359D0FE2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8EAAE-A629-447B-9EC5-92E5CB7B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98323-139D-4031-B6F5-1BC72724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AA599-3639-4132-B2AA-0F34ECFA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97DEE-B316-4DC3-8B43-84FC683C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D3D97-97BC-4C04-833B-63858035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F8524-A095-4884-862B-B2BD3961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D79-C96A-402B-8D52-47E25F1A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B9130-47D7-416B-B2AD-E45550B6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887DA-40C6-4ED2-B207-90CEF47E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60ABC-88BE-470A-B95C-85957A6A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B7975-03DE-41B4-9248-F0DDECC7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77962-0E0B-4A48-9D2C-4314C7E8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C6776-7D09-4089-B4DA-9F659F2B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1843C-AD1E-45EC-B726-AF4E0AC7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856C3-F6E6-41BA-A37E-6A1E6205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FFAC5-E637-4FE4-B0D8-89C7D796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82AD1-E2BC-4813-A27F-4DD2EDF0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20E1-E44F-4043-9E61-8C66394446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636A-E364-4D17-A0B9-CBB29B838F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BC37-51EA-4649-9618-24ACBEFE19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230A-01AC-45CB-A8AA-22EFB59BB3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4F50-1B2D-481A-8416-30CE4C4CF2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F788-3017-490B-B4C1-823DEA0B71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8FFF-BF9B-48AF-9AA0-2045AD453A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B72E-9BAA-4DE8-B5E0-4BDE6EB045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770E-0990-4023-8AC9-754C9595F3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DFCD-B953-42E7-B24A-6CADE9E593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856D-7380-4862-8896-71748DA2F5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5BD3-F4FC-4AE7-8093-A6FCDCB51C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E65B-C063-4BBF-BAF9-75E8212E0B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4635-97B9-4615-B34F-50440C7805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1558-9FC9-445A-B711-53BD342548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81D9-39A3-478C-9AA1-688ECF8916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64BA-E54E-416C-A547-60EE5ACF14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19D3-216E-4AC3-B877-28B4DE081F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EA95-7C0B-498E-A7DB-78C97FA95E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09CF-7B6F-4BA3-B326-B67BDAF633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7AD2-877E-4A61-84AE-0C31FDED1E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AC26-6F0B-496D-9578-5F3BFF4BCF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91BE-2F26-4EF8-942A-2F0F13D8FA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79AD-10AB-466A-8ACF-E5E3A66F0E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F2E1-C476-407E-97DC-96B32A6A6A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3DD2-ACDB-45B8-942A-9671FB0925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9BEB-B9E7-4208-82EE-260FDBF271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0934-1533-4423-B0BD-EBDF5C00DF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3CAA-C852-4F21-BC4D-13C85B16D3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00DF-76BF-4171-8EB4-1D7CEE586D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CA9B-29E7-406D-9478-644CAE5154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17A3-9FE4-4B52-815E-B0142CFF84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B75D-D49E-4604-B8E8-D082D9044C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FC06-5B0A-4169-BFC0-9CF0B17A56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55C8-12BE-4804-A19C-6A41E83127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49DB-BE0A-4E45-89E2-ADF3F1D492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5958-6363-4221-B7B1-184E2CB53B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413A-3BDD-47FA-93CF-D21932F6A5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6D06-17A8-48CF-A419-F95A3D8641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A514-AF82-4574-B65D-2F79A2815D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14680" y="3186000"/>
            <a:ext cx="391464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23920" y="781200"/>
            <a:ext cx="8696160" cy="52956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692360" y="35002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508720" y="35002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692360" y="52815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340000" y="55990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848200" y="5364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012000" y="5699160"/>
            <a:ext cx="288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237960" y="2114640"/>
            <a:ext cx="8668080" cy="2628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1692360" y="3554280"/>
            <a:ext cx="100800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2906640" y="3573360"/>
            <a:ext cx="100800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5867280" y="3952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1692360" y="3986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1979640" y="4302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5292720" y="355428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6310440" y="353844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9"/>
          <a:stretch/>
        </p:blipFill>
        <p:spPr>
          <a:xfrm>
            <a:off x="7342200" y="353844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0"/>
          <a:stretch/>
        </p:blipFill>
        <p:spPr>
          <a:xfrm>
            <a:off x="6084720" y="4346640"/>
            <a:ext cx="2890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157320" y="1390680"/>
            <a:ext cx="8829360" cy="4076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4572000" y="3924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4572000" y="4365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8369280" y="2133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8369280" y="2565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8359920" y="2962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8359920" y="3357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8"/>
          <a:stretch/>
        </p:blipFill>
        <p:spPr>
          <a:xfrm>
            <a:off x="8350200" y="3789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9"/>
          <a:stretch/>
        </p:blipFill>
        <p:spPr>
          <a:xfrm>
            <a:off x="8561520" y="4211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0"/>
          <a:stretch/>
        </p:blipFill>
        <p:spPr>
          <a:xfrm>
            <a:off x="8556480" y="46101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1"/>
          <a:stretch/>
        </p:blipFill>
        <p:spPr>
          <a:xfrm>
            <a:off x="8575560" y="502272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20:0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